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C80-752B-4419-925C-D6822EDB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DC3-3AB6-4C40-8785-2C79E898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279-C5CA-454A-AAB9-31C65C19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AA5-E03A-465A-97F7-40E7F5E4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68F-0A94-4C4C-8337-F56EBDBC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0BE-725A-4B5B-9070-BC4E3CFB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1CB-30B9-415E-B029-B0ECB209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1B0-C3A9-4665-BF45-7A2C0C2F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055-2851-4809-BB7F-F4BAF4F1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493-7E00-4170-87AB-47B51E6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951-6128-4E3A-AA08-CCAE5333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108-936F-4024-8AA5-AE88C37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2B35-28B5-445D-ACD9-593B3F7A40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285640"/>
            <a:ext cx="6095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sson21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ooks or Compu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685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冀教版 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457200" y="1328760"/>
            <a:ext cx="83059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209680" y="1625760"/>
            <a:ext cx="6400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rinting press _________, it changed the world. The ________ printing press can print books ________, and makes it possible for the _______ person to have ______ access to read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439360" y="22096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733640" y="281952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d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705720" y="335268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286360" y="441972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933960" y="4419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6"/>
          <p:cNvSpPr/>
          <p:nvPr/>
        </p:nvSpPr>
        <p:spPr>
          <a:xfrm>
            <a:off x="533520" y="1219320"/>
            <a:ext cx="83055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286000" y="152388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 and the Internet changed the world. They made it possible for a new kind of book: the _______ books. Traditionally books could only be _______ and sold at the store, but today you can buy and _______ books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196880" y="320040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048120" y="4267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429720" y="53341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324480" y="54100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89120" y="16002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lesson and put the sentences in correct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413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took a long time to write just one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made it possible for common people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-book 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had no books, and they sha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 by telling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rinting press 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download books from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paper, people began to write down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304920" y="12193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"/>
          <p:cNvSpPr/>
          <p:nvPr/>
        </p:nvSpPr>
        <p:spPr>
          <a:xfrm>
            <a:off x="304920" y="13716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04920" y="20574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304920" y="38098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304920" y="32004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304920" y="4876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304920" y="54864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0"/>
          <p:cNvSpPr/>
          <p:nvPr/>
        </p:nvSpPr>
        <p:spPr>
          <a:xfrm>
            <a:off x="304920" y="60958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304920" y="19051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304920" y="30481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3049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304920" y="476424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304920" y="5943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6"/>
          <p:cNvSpPr/>
          <p:nvPr/>
        </p:nvSpPr>
        <p:spPr>
          <a:xfrm>
            <a:off x="304920" y="5373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09480" y="1752480"/>
          <a:ext cx="7696080" cy="43434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1765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lk with your part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</a:tr>
              <a:tr h="128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</a:tr>
              <a:tr h="1289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ork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610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ts val="59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like reading paper books or electronic book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ts val="59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 with your members in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371600" y="2819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o matter what we hav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computer, a tablet, a laptop, an e-reader or a real book, keep on read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5120" y="1371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8880" y="24354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like reading paper boo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electronic books? Why? Tal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your partner and make up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lo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ow can we get knowled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3578400"/>
            <a:ext cx="510552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 talking with oth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 watching T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 reading 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 reading e-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ce6f0cdb75aaecea25cef0ec8f7c015"/>
          <p:cNvPicPr/>
          <p:nvPr/>
        </p:nvPicPr>
        <p:blipFill>
          <a:blip r:embed="rId1"/>
          <a:srcRect l="0" t="0" r="0" b="38929"/>
          <a:stretch/>
        </p:blipFill>
        <p:spPr>
          <a:xfrm>
            <a:off x="2895480" y="682560"/>
            <a:ext cx="3084480" cy="204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28600" y="123336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thout paper, how can we get knowledg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2" descr="t01ff0478760c7f7a8a.jpg"/>
          <p:cNvPicPr/>
          <p:nvPr/>
        </p:nvPicPr>
        <p:blipFill>
          <a:blip r:embed="rId1"/>
          <a:srcRect l="0" t="13889" r="0" b="0"/>
          <a:stretch/>
        </p:blipFill>
        <p:spPr>
          <a:xfrm>
            <a:off x="2057400" y="3079800"/>
            <a:ext cx="4952880" cy="3321000"/>
          </a:xfrm>
          <a:prstGeom prst="rect">
            <a:avLst/>
          </a:prstGeom>
          <a:ln w="0">
            <a:noFill/>
          </a:ln>
        </p:spPr>
      </p:pic>
      <p:sp>
        <p:nvSpPr>
          <p:cNvPr id="48" name="矩形 3"/>
          <p:cNvSpPr/>
          <p:nvPr/>
        </p:nvSpPr>
        <p:spPr>
          <a:xfrm>
            <a:off x="2594160" y="2057400"/>
            <a:ext cx="354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telling s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t01d66cedd9322d8ed0.jpg"/>
          <p:cNvPicPr/>
          <p:nvPr/>
        </p:nvPicPr>
        <p:blipFill>
          <a:blip r:embed="rId1"/>
          <a:srcRect l="0" t="0" r="0" b="9425"/>
          <a:stretch/>
        </p:blipFill>
        <p:spPr>
          <a:xfrm>
            <a:off x="1523880" y="152280"/>
            <a:ext cx="607716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2280" y="42670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na was the first conutry that invented paper in Han Dynasty. It changed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5105520" y="1600200"/>
            <a:ext cx="380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hand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手；手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31480" y="3811680"/>
            <a:ext cx="4645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ncient times,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ote  word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write one book, 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ually _________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Ranan\Desktop\新建文件夹\01300000210281121902875581215.jpg01300000210281121902875581215"/>
          <p:cNvPicPr/>
          <p:nvPr/>
        </p:nvPicPr>
        <p:blipFill>
          <a:blip r:embed="rId1"/>
          <a:stretch/>
        </p:blipFill>
        <p:spPr>
          <a:xfrm>
            <a:off x="380880" y="752400"/>
            <a:ext cx="4267440" cy="2838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105520" y="458640"/>
            <a:ext cx="3581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s and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362320" y="434340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752120" y="541008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p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2680" y="4038120"/>
            <a:ext cx="4417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a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______ technology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as possible to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6446-12021211345176"/>
          <p:cNvPicPr/>
          <p:nvPr/>
        </p:nvPicPr>
        <p:blipFill>
          <a:blip r:embed="rId1"/>
          <a:stretch/>
        </p:blipFill>
        <p:spPr>
          <a:xfrm>
            <a:off x="380880" y="609480"/>
            <a:ext cx="4267440" cy="3124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5032440" y="1828800"/>
            <a:ext cx="3806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rn     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代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ting press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刷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hand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手；手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5520" y="458640"/>
            <a:ext cx="3581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s and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058120" y="396252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inting 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371600" y="441972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572360" y="30481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581280" y="4878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57560" y="54100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3814920"/>
            <a:ext cx="4267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now a new ki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books _________: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book(e-book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easier for peopl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y and _____ on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Ranan\Desktop\新建文件夹\67B75C2F2892EC35F5E79BF51BE35344.jpg67B75C2F2892EC35F5E79BF51BE35344"/>
          <p:cNvPicPr/>
          <p:nvPr/>
        </p:nvPicPr>
        <p:blipFill>
          <a:blip r:embed="rId1"/>
          <a:srcRect l="5981" t="5810" r="8425" b="8177"/>
          <a:stretch/>
        </p:blipFill>
        <p:spPr>
          <a:xfrm>
            <a:off x="304920" y="457200"/>
            <a:ext cx="4398840" cy="3219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5105520" y="458640"/>
            <a:ext cx="3581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s and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057400" y="427032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05280" y="480384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572360" y="30481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057400" y="59450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032440" y="1828800"/>
            <a:ext cx="3806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den     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代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ting press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刷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32440" y="1828800"/>
            <a:ext cx="3806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ear       v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onic   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ting press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刷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hand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手；手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d the passage and answer 3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2760" y="1752120"/>
            <a:ext cx="8836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How did people pass on their knowledge  without books in ancient ti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at made it possible to print books quick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What kind of books quickly changed people’s reading hab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85800" y="2743200"/>
            <a:ext cx="6705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y telling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printing p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438120" y="5389560"/>
            <a:ext cx="612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 electronic books(e-book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0" y="2362320"/>
            <a:ext cx="73897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306360" y="990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d Passage1, 2 and 3 again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523880" y="2666880"/>
            <a:ext cx="701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paper, people began to _____ _______ their stories. People wrote each word ________. It took a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 to write one book.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n’t travel 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6095880" y="43419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61800" y="38070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615080" y="380700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467480" y="273996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903320" y="32734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800600" y="49500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27:19Z</dcterms:created>
  <dc:creator> </dc:creator>
  <dc:description> </dc:description>
  <dc:language>en-US</dc:language>
  <cp:lastModifiedBy>Administrator</cp:lastModifiedBy>
  <dcterms:modified xsi:type="dcterms:W3CDTF">2019-01-02T02:27:3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